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45E-3D1B-4AB4-A1FC-089A9421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65F-83CA-4322-8968-1E293DF3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B65-F119-4FA3-83EC-E2C478E8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A83-C691-40BE-8CC3-1E4E2D5C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AA0-5AB5-4885-A941-6837E1E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B74-15CA-4397-B6C8-11E862D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EE2-2D95-4834-8920-9B5494F0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3F5-FECC-4D57-97E6-777FF81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050-1F6B-4B42-96B9-BA9EB415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7B7-448E-48B3-855F-5ADE5C7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0DB-CFD2-4E2B-B1DB-2A434997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4D6-C3FF-4ADB-9618-629C018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FEA7-E75B-4024-A874-B97C02EF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ta.physics.uoguelph.ca/tutorials/fbd/quizzes.html" TargetMode="External"/><Relationship Id="rId2" Type="http://schemas.openxmlformats.org/officeDocument/2006/relationships/hyperlink" Target="http://eta.physics.uoguelph.ca/tutorials/fbd/quizzes.html" TargetMode="External"/><Relationship Id="rId3" Type="http://schemas.openxmlformats.org/officeDocument/2006/relationships/hyperlink" Target="http://eta.physics.uoguelph.ca/tutorials/fbd/quizzes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ree Body Diagrams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. Appli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1460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 in the direction of push or p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. Ten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if pulling force acts on ends, such as a rope or wire used to pull a boulde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ta.physics.uoguelph.ca/tutorials/fbd/quizzes.htm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ces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762120"/>
          <a:ext cx="8839080" cy="58561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3124080"/>
                <a:gridCol w="3200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orce that acts to oppose sliding motion b/w surf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 to the surface and opposite the direction of sli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ntact force exerted by a surface on an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to and away from the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storing force, that is, the push or pull a spring exerts on an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e the displacement of the object at the end of the sp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ull exerted by a string, rope or cable when attached to a body and pulled ta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y from the object and // to the string, rope, or cable at the point of attach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hr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general term for the forces that move objects such as rockets, planes, cars and people (Force Appli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same direction as the acceleration of the object barring any resistive fo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 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ng-range force due to gravitational attraction b/w two objects, generally Earth and an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 down toward the center of the Ea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box resting flat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895480" y="3352680"/>
          <a:ext cx="343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352680"/>
                    <a:ext cx="343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5720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69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5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2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 ice puck on a slante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33720" y="2819520"/>
          <a:ext cx="47052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819520"/>
                    <a:ext cx="4705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1008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53341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3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iano being pulled upstairs by a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33720" y="2819520"/>
          <a:ext cx="47052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819520"/>
                    <a:ext cx="4705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41008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3341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029200" y="35809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3276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410080" y="3962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581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360" y="4419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57200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124080" y="2971800"/>
          <a:ext cx="243864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243864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4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endulum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1814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3400" y="3047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49400" y="2286000"/>
          <a:ext cx="35514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9400" y="2286000"/>
                    <a:ext cx="3551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28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5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ke the elevator to the fourth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9528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720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905120" y="2133720"/>
          <a:ext cx="507204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07204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5228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6 – Draw a free-body diagram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ndulum swings in a horizontal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971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572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66880" y="28954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057400" y="2819520"/>
          <a:ext cx="5029200" cy="33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5029200" cy="33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7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push 2 bo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wn the h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box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3341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0200" y="1295280"/>
          <a:ext cx="243828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295280"/>
                    <a:ext cx="24382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3434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434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4267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7144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88620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71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4956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ue 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“body” = the ob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ee” = it is shown without other objects around 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bbreviated  “fb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7400" y="2819520"/>
          <a:ext cx="5029200" cy="33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5029200" cy="33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52280"/>
            <a:ext cx="8305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8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push 2 bo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wn the h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box 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124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00200" y="1295280"/>
          <a:ext cx="243828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295280"/>
                    <a:ext cx="24382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3434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434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426708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ue to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97144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388620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133720" y="3809880"/>
          <a:ext cx="46479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9880"/>
                    <a:ext cx="46479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52280"/>
            <a:ext cx="83059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9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ruck accel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 quickly that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front doesn’t f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F on the box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029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715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1480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219320"/>
          <a:ext cx="3562200" cy="23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35622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19112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4952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962520" y="2743200"/>
          <a:ext cx="464796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743200"/>
                    <a:ext cx="464796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5228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0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x B accelerate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ight while A 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 top.  The F on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4100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40384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2120" y="1295280"/>
          <a:ext cx="2971800" cy="20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295280"/>
                    <a:ext cx="29718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172200" y="4419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172200" y="3200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191120" y="2895480"/>
          <a:ext cx="441936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895480"/>
                    <a:ext cx="441936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5228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1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hysics Text an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l are join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pe slung over a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8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3341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342900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90720" y="1219320"/>
          <a:ext cx="2895480" cy="22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289548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333760" y="3809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24480" y="38098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324480" y="3962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809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force on the Tex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038480" y="2819520"/>
          <a:ext cx="4419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19520"/>
                    <a:ext cx="441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295280" y="-7086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5228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12 – Draw a free-body diagram for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hysics Text an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l are join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pe slung over a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8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3657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3341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523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449568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1219320"/>
          <a:ext cx="2895480" cy="22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289548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105520" y="3657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809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force on the nove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181480" y="350496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172200" y="35049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rawing FBD’s 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boat on water being pulled by a ro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Simplify the object (dot or 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dd in all the forc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ch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0" y="4114800"/>
          <a:ext cx="350532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114800"/>
                    <a:ext cx="3505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72000" y="1523880"/>
          <a:ext cx="35337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523880"/>
                    <a:ext cx="3533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ome Possible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mal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ictional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ust (Applied For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.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s downward  towards the cente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monly 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ight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equal to: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. Normal Fo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s  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|_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surface -   us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s the object from “falling into” whatever it is sitting on and is always  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|_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the surface upon which it r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. Frictional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llel to mo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t in the opposite  direction 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: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, to be more specific, you might use     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or  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See next slid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efficient of Frictio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value representing the relative “stickiness” of a surface; the higher the value, the greater the friction. Values are found in a table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rfaces must always be compared – such as wood on ice, not just ic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the symbol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ar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wo types of Fric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Kinetic Fri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the friction which causes    moving objects to eventually stop  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 this is also known as “Sliding Fri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Static Fri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the friction which must 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overcome to get a body to move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ypical Coefficients of Fr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5157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r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32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32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bber on concr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bber on wet concr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od on wo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l on Steel (dry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4:52:46Z</dcterms:created>
  <dc:creator>marti andreski</dc:creator>
  <dc:description/>
  <dc:language>en-US</dc:language>
  <cp:lastModifiedBy>jluckey</cp:lastModifiedBy>
  <dcterms:modified xsi:type="dcterms:W3CDTF">2009-12-03T17:10:08Z</dcterms:modified>
  <cp:revision>92</cp:revision>
  <dc:subject/>
  <dc:title>Why Study Physics?</dc:title>
</cp:coreProperties>
</file>